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40E-82C8-4F99-8D23-AAA5EC84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4A4-C8E6-43E1-A734-F36E9049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858-07AB-4A93-9E2F-E10812DE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8CE-3CB6-409C-A150-8CBF44F6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FA8-68DE-44BA-9A07-0931BFE3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313-13F5-4076-AD10-4C9E79B8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BA8-CFC7-4FA4-AFF2-9542EE28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797-FDC0-4179-B385-83E4C68A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490-8783-4C97-8A0C-E0782634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EDC0-545E-41C8-9537-A7D92DA7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057-9DF0-4625-A152-33CD51F5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B19B-4918-41D9-874C-D89DE215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C4AB-4FB6-404D-BEDC-C86D10882C83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81000" y="324000"/>
            <a:ext cx="5040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ahoma"/>
              </a:rPr>
              <a:t>Reinhard Krammer / Universität Salzbu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00"/>
                </a:solidFill>
                <a:latin typeface="Tahoma"/>
              </a:rPr>
              <a:t>Geschichtsdidaktische Anmerkungen zum Lernen über Konzentrationsla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3360" y="1619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matische Schwerpunk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3360" y="2268360"/>
            <a:ext cx="65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ahoma"/>
              </a:rPr>
              <a:t>Die Geschichtsdidaktik heute – Geschichtsbewusstsein im Mittelpun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360" y="320364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arum die Vermittlung von Wissen über NS, KZs und Holocaust heute nicht einfach 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3360" y="4859280"/>
            <a:ext cx="61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00"/>
                </a:solidFill>
                <a:latin typeface="Tahoma"/>
              </a:rPr>
              <a:t>Einige mögliche Gründe für Weigerungsver-halten und Überdrussreaktionen seitens der Schüler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4640" y="6012000"/>
            <a:ext cx="6193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ahoma"/>
              </a:rPr>
              <a:t>Altersgerechtes Lern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ahoma"/>
              </a:rPr>
              <a:t>Unterschiede im Lernverhalten zwischen Burschen und Mäd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ahoma"/>
              </a:rPr>
              <a:t>Lernverhalten von SchülerInnen aus Migrantenfamili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3360" y="3995640"/>
            <a:ext cx="59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rbeitsteilung zwischen Gedenkstätte  und  Schul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6640" y="82692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6280" y="1692360"/>
            <a:ext cx="6192720" cy="36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Gedenkstättenpädagogik stellt Zugänge ins Zentrum,   die Mädchen bevorzu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Burschen werden auf Grund ihrer Interessen eher vernachlässigt und ihre Zugänge als moralisch unangemessen sanktioni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as Angebot richtet sich vorrangig an Mädchen / Frauen während männliche Zugänge unberück-sichtigt 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0640" y="684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lussfolgerungen aus der Untersu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9360" y="2509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66"/>
                </a:solidFill>
                <a:latin typeface="Tahoma"/>
              </a:rPr>
              <a:t>Die Einstellung junger Migranten zu NS und Holocaust nach Georg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0280" y="900000"/>
            <a:ext cx="6193080" cy="355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66"/>
                </a:solidFill>
                <a:latin typeface="Arial"/>
              </a:rPr>
              <a:t>Typus 1:</a:t>
            </a:r>
            <a:r>
              <a:rPr b="0" lang="de-AT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ff"/>
                </a:solidFill>
                <a:latin typeface="Arial"/>
              </a:rPr>
              <a:t>Fokus: Identifikation mit den Opfern der NS-Herrsch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Intensive Beschäftigung und hohes Maß persönlicher Be-troffenheit und Identifikation mit den Opf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ergleich mit der eigenen Position als Angehörige(r) einer Minderhe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Ängste, dass rassistische Bedrohung wieder aufleben kön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igene Erfahrungen mit Rassismus erzeugt Nähe zu den NS-Verfolg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0280" y="4932360"/>
            <a:ext cx="6264360" cy="368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66"/>
                </a:solidFill>
                <a:latin typeface="Arial"/>
              </a:rPr>
              <a:t>Typus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ff"/>
                </a:solidFill>
                <a:latin typeface="Arial"/>
              </a:rPr>
              <a:t>Identifikation mit der historischen Bezugsgruppe der Mitläu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ie Deutschen waren selbst Opfer des Nationalsozialis-mus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as Bedürfnis, dazuzugehören, führt zur  Verteidigung der Tätern bzw. der Mitläufer. Verteidigung und Verständnis für „die Deutschen“ als Eintrittsbillett in die deutsche Gemein-schaf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Häufig auch Relativieren der NS-Verbrechen durch Verwei-se auf Gräueltaten in anderen Länd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76280" y="468360"/>
            <a:ext cx="5832360" cy="3408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66"/>
                </a:solidFill>
                <a:latin typeface="Arial"/>
              </a:rPr>
              <a:t>Typus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ff"/>
                </a:solidFill>
                <a:latin typeface="Arial"/>
              </a:rPr>
              <a:t>Identifkation mit der eigenen ethnischen Gru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Schicksal der eigenen Gruppe ist Hauptbezugspun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rgumentative Verknüpfung der Situation und der Ge-schichte der eigenen ethnischen Gruppe mit dem Holo-cau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Junge Migranten, die ihre eigene Verfolgungsgeschich-te nicht anerkannt sehen, nutzen die Geschichte der NS-Herrschaft als Projektionsfläche für die Abbildung ihrer eigenen Geschich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280" y="4427640"/>
            <a:ext cx="5977080" cy="3134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66"/>
                </a:solidFill>
                <a:latin typeface="Arial"/>
              </a:rPr>
              <a:t>Typus 4: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ff"/>
                </a:solidFill>
                <a:latin typeface="Arial"/>
              </a:rPr>
              <a:t>Identifikation mit der Menschheit als historische Bezugsgru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Relativierung der NS-Vergangenheit und der rechts-extremistischen Potentiale in  der Einwanderungsgesell-schaft durch Verweis auf Universalisierung der Phäno-me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enschen sind überall gleich“ – Argu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ergleich mit anderen Unrechtssystemen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b4d5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76280" y="324000"/>
            <a:ext cx="59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Zusammenfassende Thesen zur Behandlung der Themen NS und Holocaust im 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0280" y="1116000"/>
            <a:ext cx="638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Tahoma"/>
              </a:rPr>
              <a:t>Das Geschichtsbewusstsein  das SchülerInnen in den GU mitbringen, ist heute vor allem von großer Heterogenität gekenn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9000" y="1908000"/>
            <a:ext cx="666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Alle Versuche, dieses oft naive und wenig reflektierte Ge-schichtsbewusstsein in ein reflektiertes überzuleiten, hat zur Voraussetzung, dass sich Schülerinnen ihre Haltungen und Urteile frei und ohne Bevormundung erarbei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0280" y="3059280"/>
            <a:ext cx="64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Tahoma"/>
              </a:rPr>
              <a:t>Jede Generation hat das Recht sich in ein je spezifisches Verhältnis zur Vergangenheit zu setzen. Eine von der älteren Generation „geliehene Erinnerung“ ist dafür unbrau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0280" y="4067280"/>
            <a:ext cx="6337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Durch die mediale Vermittlung (TV-Dokumentationen!) er-leben S/S die Geschichte des NS und des Holocausts primär als das Werk von Einzeltätern. Sie erkennen sich in dieser Geschichte nicht. Der GU muss diese Perspektive aufbre-chen und die „Bystanders“ stärker in den Blick nehmen. Eine „Verschärfung der Wachsamkeit auch sich selbst ge-genüber“ wird nur so möglich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0280" y="6012000"/>
            <a:ext cx="60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Tahoma"/>
              </a:rPr>
              <a:t>Es verbietet sich, über die Geschehnisse in der  Diktion der Täter zu berichten („Blitzkriege“, „Volksgemein-schaft“, „Judenproblem“ usw.) und die Opfer erneut zum Schweigen zu verurteil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0280" y="7236000"/>
            <a:ext cx="61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Geschichtsunterricht darf nicht verhindern sondern för-dern, dass kommende Generationen einen eigenen, nicht von uns geborgten Zugang zu diesem Teil der Geschichte fin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3360" y="324000"/>
            <a:ext cx="612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99"/>
                </a:solidFill>
                <a:latin typeface="Arial"/>
              </a:rPr>
              <a:t>Geschichtsbewusstsein kann als „reflektiert“ bezeichnet werd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wenn die Operationen des Geschichtsbewusstseins reflektiert werden, d.h. bewusst voneinander unter-schieden werden kön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640" y="205092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pera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ergangenes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wird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ur Kenntnis genom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(gewollt/ungewollt, mit oder ohne Absic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9000" y="3924360"/>
            <a:ext cx="26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per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Das Gehörte wird in eine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Kontext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gestellt (Ursachen / Folgen, Verknüpfungen mit anderen Ereigniss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0280" y="6156360"/>
            <a:ext cx="30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5050"/>
                </a:solidFill>
                <a:latin typeface="Arial"/>
              </a:rPr>
              <a:t>Opera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6666"/>
                </a:solidFill>
                <a:latin typeface="Arial"/>
              </a:rPr>
              <a:t>Die so konstruierte Ge-schichte wird in </a:t>
            </a:r>
            <a:r>
              <a:rPr b="1" lang="de-AT" sz="1800" spc="-1" strike="noStrike">
                <a:solidFill>
                  <a:srgbClr val="003366"/>
                </a:solidFill>
                <a:latin typeface="Arial"/>
              </a:rPr>
              <a:t>Bezie-hung zur</a:t>
            </a:r>
            <a:r>
              <a:rPr b="1" lang="de-AT" sz="1800" spc="-1" strike="noStrike">
                <a:solidFill>
                  <a:srgbClr val="006666"/>
                </a:solidFill>
                <a:latin typeface="Arial"/>
              </a:rPr>
              <a:t> Gegenwart u. Zukunft gesetzt (Warum interessiert mich das ? Welche Relevanz hat das für mein Lebe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763000">
            <a:off x="1735920" y="3600720"/>
            <a:ext cx="505080" cy="287280"/>
          </a:xfrm>
          <a:prstGeom prst="rightArrow">
            <a:avLst>
              <a:gd name="adj1" fmla="val 50000"/>
              <a:gd name="adj2" fmla="val 4395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763000">
            <a:off x="3464640" y="576000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96440" y="519840"/>
            <a:ext cx="62035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ompetenzen, die dem Erwerb von „reflektier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schichtsbewusstsein“ vorgelagert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37000" y="1763640"/>
            <a:ext cx="2016360" cy="6858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Rekonstruk-tions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97000" y="2556000"/>
            <a:ext cx="0" cy="3454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92280" y="392436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45000" y="2627280"/>
            <a:ext cx="0" cy="345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53000" y="3924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77000" y="2700360"/>
            <a:ext cx="73080" cy="331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28640" y="2989440"/>
            <a:ext cx="172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13000" y="3059280"/>
            <a:ext cx="20872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Dekonstruktions-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60640" y="3059280"/>
            <a:ext cx="1873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Orientierungs-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2280" y="1763640"/>
            <a:ext cx="1512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Frage-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37000" y="1763640"/>
            <a:ext cx="1584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Sach-kompetenz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6300720"/>
            <a:ext cx="2087640" cy="207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Geschichte = Antwort auf Fragen an die Vergangen-hei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Fragekompetenz = Voraussetzung für das Erschließen von Geschichte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65360" y="6300720"/>
            <a:ext cx="1943280" cy="2040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ähigkeit, neue geschichtliche Informationen in bestehende Wis-sensbestände einzubeziehen und verfügbar zu 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57360" y="4284720"/>
            <a:ext cx="1944720" cy="1681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alyse „fertiger Geschichten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kennen v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lektion, Deu-tung, In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6300720"/>
            <a:ext cx="1801800" cy="2051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ähigkeit, aus Quellen Ge-schichte zu kon-struieren (narra-tive Kompeten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60640" y="4284720"/>
            <a:ext cx="1800360" cy="1681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Fähigkeit, histo-risches Wissen für Gegenwart u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Zukunft zu nut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73360" y="3780000"/>
            <a:ext cx="309708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60640" y="4140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KOMPETENZEN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sollten zu folgenden Einsichten füh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3360" y="1403280"/>
            <a:ext cx="2305080" cy="223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9360" y="183528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eschichte ist nur ein rekonstruierter Teil der Vergangen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65360" y="250920"/>
            <a:ext cx="2305080" cy="20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81360" y="61128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ff"/>
                </a:solidFill>
                <a:latin typeface="Arial"/>
              </a:rPr>
              <a:t>Die Mittel zur Rekonstruktion der Vergangen-heit sind be- gren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1763640"/>
            <a:ext cx="2303280" cy="20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8640" y="2125800"/>
            <a:ext cx="19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ff"/>
                </a:solidFill>
                <a:latin typeface="Arial"/>
              </a:rPr>
              <a:t>Mit jeder histor. Narration sind bestimmte Ab-sichten verb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0280" y="6227640"/>
            <a:ext cx="2376720" cy="208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9360" y="651672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edes Medium hat Auswirkun- gen darauf, wie Geschichte erzählt w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60640" y="6372360"/>
            <a:ext cx="2521080" cy="21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9720" y="665964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ff"/>
                </a:solidFill>
                <a:latin typeface="Arial"/>
              </a:rPr>
              <a:t>G-Darstellungen sind von Einstellungen / Interessen der Gegenwart mit-bestim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361600">
            <a:off x="1844280" y="3635280"/>
            <a:ext cx="432000" cy="2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556000"/>
            <a:ext cx="287280" cy="934920"/>
          </a:xfrm>
          <a:prstGeom prst="upArrow">
            <a:avLst>
              <a:gd name="adj1" fmla="val 50000"/>
              <a:gd name="adj2" fmla="val 8136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916600">
            <a:off x="4139640" y="3428640"/>
            <a:ext cx="247680" cy="374760"/>
          </a:xfrm>
          <a:prstGeom prst="upArrow">
            <a:avLst>
              <a:gd name="adj1" fmla="val 50000"/>
              <a:gd name="adj2" fmla="val 3782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468000">
            <a:off x="2025000" y="5688360"/>
            <a:ext cx="576000" cy="216000"/>
          </a:xfrm>
          <a:prstGeom prst="leftArrow">
            <a:avLst>
              <a:gd name="adj1" fmla="val 50000"/>
              <a:gd name="adj2" fmla="val 6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 rot="14073600">
            <a:off x="4183200" y="5690880"/>
            <a:ext cx="637920" cy="273240"/>
          </a:xfrm>
          <a:prstGeom prst="leftArrow">
            <a:avLst>
              <a:gd name="adj1" fmla="val 50000"/>
              <a:gd name="adj2" fmla="val 5836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3360" y="468360"/>
            <a:ext cx="6524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Didaktisch-methodisch problematis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Wege im G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4640" y="1763640"/>
            <a:ext cx="619128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Suggestive Lenkung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e erwünschten Einstellungen und Urteile werden mit den Informationen mitgelief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3360" y="3203640"/>
            <a:ext cx="62643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333399"/>
                </a:solidFill>
                <a:latin typeface="Tahoma"/>
              </a:rPr>
              <a:t>Bewusstes Abstellen auf „Betroffenheits-didaktik“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AT" sz="1800" spc="-1" strike="noStrike">
                <a:solidFill>
                  <a:srgbClr val="000000"/>
                </a:solidFill>
                <a:latin typeface="Tahoma"/>
              </a:rPr>
              <a:t>Erst wenn die Schülerinnen von einer Sache betroffen sind, lernen si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3360" y="5003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arstellung des Nationalsozialismus mit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Fokussierung auf Hitle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und sein engstes Gefol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0280" y="6012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333399"/>
                </a:solidFill>
                <a:latin typeface="Tahoma"/>
              </a:rPr>
              <a:t>Verschweigen</a:t>
            </a:r>
            <a:r>
              <a:rPr b="1" lang="de-AT" sz="1800" spc="-1" strike="noStrike">
                <a:solidFill>
                  <a:srgbClr val="000000"/>
                </a:solidFill>
                <a:latin typeface="Tahoma"/>
              </a:rPr>
              <a:t> oder zu geringes Gewichten </a:t>
            </a:r>
            <a:r>
              <a:rPr b="1" lang="de-AT" sz="1800" spc="-1" strike="noStrike">
                <a:solidFill>
                  <a:srgbClr val="333399"/>
                </a:solidFill>
                <a:latin typeface="Tahoma"/>
              </a:rPr>
              <a:t>der „Bystander</a:t>
            </a:r>
            <a:r>
              <a:rPr b="1" lang="de-AT" sz="1800" spc="-1" strike="noStrike">
                <a:solidFill>
                  <a:srgbClr val="000000"/>
                </a:solidFill>
                <a:latin typeface="Tahoma"/>
              </a:rPr>
              <a:t>“, der Mitwisser, Mitläufer und Mittä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3360" y="68770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Ausblenden der Verführbarkei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er Menschen, und der möglichen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Fragilität eigener Resistenz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04640" y="539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inige mögliche Gründe für Überdrussreaktionen Jugendlic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4640" y="1403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hnung jeder Verantwortung für das historische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che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4640" y="2195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ordnung höherer Relevanz an gegenwärt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flikte und  Verbre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3360" y="3564000"/>
            <a:ext cx="590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lieuverlust und Individualisierung, mangel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lidaritätserfahrungen und soziale Einbindun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3360" y="450072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troffenheitsdruck und Trauererwa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3360" y="6443640"/>
            <a:ext cx="61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sonalisierung der Geschichte (Film, Dokutainm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lbuch; G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0280" y="579600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ruck zur Übernahme von Urteilen und Bewer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280" y="284328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Erfahrung, dass eigene (traumatische) Erfahrung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f kein Interesse stoß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3360" y="5148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he Frequenz der Information (Schule, Medi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33360" y="3924360"/>
            <a:ext cx="6524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ige Hinwei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cheinen dennoch mögli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Geschichtsinteresse ist bei jüngeren SchülerInnen stärker auf das Konkrete, Abenteuerliche und Fremde fokussiert: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Wichtig: Identifikationsbedürf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Daher : Personifizier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(Einzelne Menschen müssen als Identifikationsfigur dien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gelnde falsche  Identifikationsangebote beim Lernen über NS-Herrschaft sind ebenso üblich wie fa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0280" y="324000"/>
            <a:ext cx="65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as Problem der Altersgerechtheit u. d. Lernpro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3360" y="900000"/>
            <a:ext cx="65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Überlegungen zur Lernpro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empirischen Belege weisen darauf hin, dass die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individu-ellen Differenzen des Geschichtsverständnisses im Fach Geschichte größer sind als die altersspezifischen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hr gute Lehrer verfügen über (nirgends formuliertes) Exper-tenwissen zur Altersgerechtheit. Ihre U-Planung folgt offen-sichtlich triftigen Alltagstheorien. Lernprogression ist ein Desiderat geschichtsdidaktischer Forsch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5000" y="611280"/>
            <a:ext cx="55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0280" y="1403280"/>
            <a:ext cx="6337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ngsam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mpetenzerweiter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 Bezug auf Metho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Erkennen der  Quellenabhängigkei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Geschichtsdar- stellungen (Rekonstruktionskompetenz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Erkennen von Perspektivitä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 Standortbezogenh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ähigkeit zum Darstellungsverglei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Kontrovers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Annahme von Folgerungsangebo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genwartsbezug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Kompetenz im Umgang mit Geschichtsfik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Geschichte im Spielfi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6280" y="395280"/>
            <a:ext cx="59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Signifikanteste Option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des Geschichtelernens mit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zunehmendem Alter: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3360" y="1694880"/>
            <a:ext cx="6191280" cy="61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ädchen identifizieren sich stärker mit den Opfern als Burs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rschen lassen weniger Betroffenheit erkennen als Mädch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rschen lehnen Verantwortung stärker ab als Mädchen (z.B. in der Frage der Entschädigun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rschen zeigen stärkeres Interesse für Technik (?) und Strukturen als Mäd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ädchen zeigen sich insgesamt engagierter, interessierter und akt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ädchen sind zu forschendem Lernen leichter zu motiv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ädchen interessieren sich weit weniger für die Täter als Burs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673272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6280" y="250920"/>
            <a:ext cx="60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fassung der Ergebnisse einer  Befra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n Gedenkstättenmitarbeitern in Deutschland  zum geschlechtsspezifischen Verhalten Jugendlicher in der Gedenkstätte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Pia Frohwein und Leonie Wagner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7:11:26Z</dcterms:created>
  <dc:creator>Philipp</dc:creator>
  <dc:description/>
  <dc:language>en-US</dc:language>
  <cp:lastModifiedBy>Dreier</cp:lastModifiedBy>
  <dcterms:modified xsi:type="dcterms:W3CDTF">2005-03-30T06:43:20Z</dcterms:modified>
  <cp:revision>22</cp:revision>
  <dc:subject/>
  <dc:title>Folie 1</dc:title>
</cp:coreProperties>
</file>